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A75-AB52-46A9-AE46-E0174128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0A4-31ED-4F39-A321-6114C993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37E-E139-4743-91CF-8B433393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F33-6871-4484-AAD4-6518818C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84D5-9D7D-4742-87B2-BBB923DD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8443-45E9-450B-8D5A-9B73ED80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03BC-55C9-421F-8375-881B6439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6530-1BFC-4799-B048-0F6B3671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6A36-39F4-4014-BC1D-68839DD4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B6DD-BF93-49CD-B552-419B7CE4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87FC-C570-4542-A307-89AC7945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F7D-AB43-48F2-9CBD-346E9CE6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BB99-5E65-4447-AA91-9843C1F9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7370-E496-433A-A390-8E5099D3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CA57-7087-407A-960B-C529CE1C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3758-8AF3-410C-BB6D-6E0CFF9C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B357-F6F9-40EA-95C7-F2B92D69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494F-7A0C-47E9-964F-67006AF2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685D4-8A7F-4563-9CCE-EDBF082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EF2C-0AEC-4E15-8C29-387C9131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F1A45-78AA-4F43-9B38-6C43062F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6565-8A5E-4E61-8DF7-AA1549A8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9E6-8C36-484D-B733-F7E879B1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6547-8CD2-4774-990A-56C890F7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5B29-652B-4A30-816E-4A646685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12A9B-E1BE-42B2-AFE1-61866A57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B4BB-D52D-4BA9-910A-209D2EB1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2830-022B-4D2F-8252-BEE572F4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F04C-D91E-41FE-92AD-9D7C97D4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AC133-90CC-4096-BDF0-2AE95A83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76557-DA3B-48A0-81E6-B79D6C9C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0E8B4-E0D7-4DF5-A4B6-28F1A920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64789-3A69-4DEE-805E-B68B0F3F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5EA-FFE9-4B29-B53C-501F20E6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E70F6-17E7-4AD4-A879-4196ECE4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0E344-5E47-4015-BEBF-02E57ABE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0F7F-8483-4FC0-AFFD-1720442E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B827-5091-4446-BA2A-D77B1EAA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6F8FC-0C84-416F-8065-F487F991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2B4F0-97C4-4C11-B3CE-99D4BE7F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CA27D-4CF3-4E23-928C-94298E6F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7738-8505-4EE3-80ED-D4645B7B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78AC-38AD-4EA8-A322-06767F2D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8F229-96BF-4934-9337-C69EF56A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0F8-3A15-4FF3-ABFE-2A6D1E79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608B-FC31-4205-BAE1-4FA98413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B5CDB-9C0D-4110-AD81-70124DC1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B1141-4AB9-4607-A7FF-BE6F21BC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45A15-C369-46B5-920C-25BDB18B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90BE3-16CB-4F07-8E54-ED509BB7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A7A05-CE03-4C00-B95E-B32392B3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E389A-8033-4A0E-B260-60E8FA26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14C9A-2B36-4582-8819-10F3F786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1724F-80BC-4A75-9216-FE7674C0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1DCFD-4983-4402-8E4A-D8B73C60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B3B-A91E-4E54-9596-6869925B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E821F-37AA-4744-9176-591DA35F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A6C-74B4-4554-A9D0-7565B735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6EE-8D76-4060-88C2-5F201023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D72-937C-4C96-9EF5-261E524B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A740-63FD-46C9-B815-276A65F5966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C606-3DEA-462F-B007-A5256BC5DFD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E582-A1BE-4177-BCD8-DB6E080D870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4AB4-91B6-4861-AD71-452B79AEB94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4806-B961-4F7E-9845-B988B98FE34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DERSTANDING HOTEL ORGANIZATIONS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4000" y="4436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8" descr="j0308362[1]"/>
          <p:cNvPicPr/>
          <p:nvPr/>
        </p:nvPicPr>
        <p:blipFill>
          <a:blip r:embed="rId1"/>
          <a:stretch/>
        </p:blipFill>
        <p:spPr>
          <a:xfrm>
            <a:off x="6500880" y="3857760"/>
            <a:ext cx="220032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functions are those behind the scenes activities that support the line functions and have little contact with gues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Engineering, security, human resources, marketing, accoun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= C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hr5.jpg"/>
          <p:cNvPicPr/>
          <p:nvPr/>
        </p:nvPicPr>
        <p:blipFill>
          <a:blip r:embed="rId1"/>
          <a:stretch/>
        </p:blipFill>
        <p:spPr>
          <a:xfrm>
            <a:off x="2620800" y="334800"/>
            <a:ext cx="3505320" cy="20606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3214800" y="85716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Staff 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Sales and Marketing Depar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dividual sales manager in charge of corporate accounts, conventions, tour and travel marke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ow intradepartmental interdepende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Human Resources Depar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sists of employee recruitment, benefits administration, training subun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Accounting Depar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pares payroll, manages accounts receivables, accounts payables, handles purchases and cost controls, store room operations, night aud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Engineering and Secur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pairs, maintenance, guest  and property security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786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Hotel Functional Organizational Desig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2989800" y="314316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497880" y="19288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r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8" name="Straight Arrow Connector 9"/>
          <p:cNvCxnSpPr/>
          <p:nvPr/>
        </p:nvCxnSpPr>
        <p:spPr>
          <a:xfrm>
            <a:off x="4929120" y="3142800"/>
            <a:ext cx="1215360" cy="25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69" name="Straight Arrow Connector 10"/>
          <p:cNvCxnSpPr/>
          <p:nvPr/>
        </p:nvCxnSpPr>
        <p:spPr>
          <a:xfrm flipH="1" flipV="1">
            <a:off x="5000040" y="3499560"/>
            <a:ext cx="1143720" cy="25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70" name="TextBox 13"/>
          <p:cNvSpPr/>
          <p:nvPr/>
        </p:nvSpPr>
        <p:spPr>
          <a:xfrm>
            <a:off x="2733840" y="20718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om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Box 14"/>
          <p:cNvSpPr/>
          <p:nvPr/>
        </p:nvSpPr>
        <p:spPr>
          <a:xfrm>
            <a:off x="6072120" y="30718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Box 15"/>
          <p:cNvSpPr/>
          <p:nvPr/>
        </p:nvSpPr>
        <p:spPr>
          <a:xfrm>
            <a:off x="469080" y="44290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ierge / Bell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3" name="Straight Arrow Connector 16"/>
          <p:cNvCxnSpPr/>
          <p:nvPr/>
        </p:nvCxnSpPr>
        <p:spPr>
          <a:xfrm>
            <a:off x="2356920" y="2500200"/>
            <a:ext cx="1001160" cy="6433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74" name="Straight Arrow Connector 18"/>
          <p:cNvCxnSpPr/>
          <p:nvPr/>
        </p:nvCxnSpPr>
        <p:spPr>
          <a:xfrm flipH="1" flipV="1">
            <a:off x="1928520" y="2500200"/>
            <a:ext cx="1000800" cy="6433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75" name="TextBox 21"/>
          <p:cNvSpPr/>
          <p:nvPr/>
        </p:nvSpPr>
        <p:spPr>
          <a:xfrm>
            <a:off x="5247360" y="36432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n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6" name="Straight Arrow Connector 23"/>
          <p:cNvCxnSpPr/>
          <p:nvPr/>
        </p:nvCxnSpPr>
        <p:spPr>
          <a:xfrm flipH="1">
            <a:off x="2714040" y="3786120"/>
            <a:ext cx="929160" cy="6433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headEnd len="med" type="triangle" w="med"/>
            <a:tailEnd len="med" type="stealth" w="med"/>
          </a:ln>
        </p:spPr>
      </p:cxnSp>
      <p:cxnSp>
        <p:nvCxnSpPr>
          <p:cNvPr id="277" name="Straight Arrow Connector 26"/>
          <p:cNvCxnSpPr/>
          <p:nvPr/>
        </p:nvCxnSpPr>
        <p:spPr>
          <a:xfrm flipV="1">
            <a:off x="4714560" y="2214360"/>
            <a:ext cx="857880" cy="78624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78" name="TextBox 32"/>
          <p:cNvSpPr/>
          <p:nvPr/>
        </p:nvSpPr>
        <p:spPr>
          <a:xfrm>
            <a:off x="5333760" y="157176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33"/>
          <p:cNvSpPr/>
          <p:nvPr/>
        </p:nvSpPr>
        <p:spPr>
          <a:xfrm>
            <a:off x="5657760" y="20718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80" name="Straight Arrow Connector 36"/>
          <p:cNvCxnSpPr/>
          <p:nvPr/>
        </p:nvCxnSpPr>
        <p:spPr>
          <a:xfrm flipH="1" flipV="1">
            <a:off x="6714360" y="2285640"/>
            <a:ext cx="857880" cy="71496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81" name="TextBox 43"/>
          <p:cNvSpPr/>
          <p:nvPr/>
        </p:nvSpPr>
        <p:spPr>
          <a:xfrm>
            <a:off x="5969880" y="4929120"/>
            <a:ext cx="1652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und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82" name="Straight Arrow Connector 48"/>
          <p:cNvCxnSpPr/>
          <p:nvPr/>
        </p:nvCxnSpPr>
        <p:spPr>
          <a:xfrm flipH="1">
            <a:off x="7071480" y="3785760"/>
            <a:ext cx="786600" cy="1072440"/>
          </a:xfrm>
          <a:prstGeom prst="straightConnector1">
            <a:avLst/>
          </a:prstGeom>
          <a:ln w="38160">
            <a:solidFill>
              <a:srgbClr val="ff8000"/>
            </a:solidFill>
            <a:miter/>
            <a:headEnd len="med" type="triangle" w="med"/>
            <a:tailEnd len="med" type="stealth" w="med"/>
          </a:ln>
        </p:spPr>
      </p:cxn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DGING BUSINESS FOR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4" name="Content Placeholder 6" descr="hr22.jpg"/>
          <p:cNvPicPr/>
          <p:nvPr/>
        </p:nvPicPr>
        <p:blipFill>
          <a:blip r:embed="rId1"/>
          <a:stretch/>
        </p:blipFill>
        <p:spPr>
          <a:xfrm>
            <a:off x="1792440" y="1143000"/>
            <a:ext cx="55972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0040" y="4643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8d3e"/>
                </a:solidFill>
                <a:latin typeface="Verdana"/>
              </a:rPr>
              <a:t>Lodging Business Forms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ive basic lodging business for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wner oper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wner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anch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Contr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4" descr="j0322381[1]"/>
          <p:cNvPicPr/>
          <p:nvPr/>
        </p:nvPicPr>
        <p:blipFill>
          <a:blip r:embed="rId1"/>
          <a:stretch/>
        </p:blipFill>
        <p:spPr>
          <a:xfrm rot="8667600">
            <a:off x="5508360" y="2944080"/>
            <a:ext cx="2448000" cy="199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wner Operate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ood to have been the first type of lodging management assoc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tel is run by an owner and the owner’s fam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ly popular Bed and Breakfast hotel is considered owner oper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168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wner Managed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wner has hired additional (non-family) personnel to help with the running of the proper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verall management is in the hands of the owner, but day to day operations can be in the hands of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76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depend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wner has no role or management in day to day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ndependent group of managers are responsible to the owner for the hotel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otel is not chain affiliat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anchised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ly owned hotels that affiliate themselves with a ch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in provides standard operating procedures and guidelines to maintain a consistent level of quality and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in has limited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anchise Costs/Benefi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expect to pay in the range of $90,000 to $150,000 in initial fees for a first-class hotel franchise like Hilton‘s Homewood Sui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costs typically include royalty fees, reservation fees, marketing fees, frequent traveler fees, and miscellaneous charges for items like training or commissions. These numbers are calculated assuming a 300-room hotel with 60% occupancy for the first year, so actual costs can vary. Total costs over ten years can run as high as $10 million or mo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nten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ational Ch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and Staff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iness 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 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 and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anchise Costs/Benefi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se with the best relationships with their franchisors reported gross operating profits per room (GOPAR) of $12,400, which translates to over $3.2 million per year in a 300 room hot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p Franchises: Marriott (Ritz Carlton), Hilton, Four Seasons, Park Plaza, Holiday In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anagement Contrac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pendently owned hotels that affiliate themselves with a ch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hain maintains a high level of control as the chain operates the hotel on the owner’s behal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hotel companies offer both franchises and management contrac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fees are paid as a % of reven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Revenues, Profits and Costs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3" name="Picture 4" descr="http://www.fotosearch.com/bthumb/FSC/FSC044/x10709781.jpg"/>
          <p:cNvPicPr/>
          <p:nvPr/>
        </p:nvPicPr>
        <p:blipFill>
          <a:blip r:embed="rId1"/>
          <a:stretch/>
        </p:blipFill>
        <p:spPr>
          <a:xfrm>
            <a:off x="1857240" y="954000"/>
            <a:ext cx="5143680" cy="3570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venue Sourc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 revenue source is the result of a product or service a hotel makes available to guests for a pri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eeping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eting / Function Sp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utlets / Ancillary Revenue 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Roo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eeping room is the most profitable of all of the hotel’s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leeping room is an accommodation un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ice of each of these units is called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om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ccupanc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measurement of how many rooms are sold each night verses how many rooms the hotel has to se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5 rooms sold of 100 rooms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5% occupancy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eeting/Function Spa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hotels incorporate the revenue source of non-sleeping rooms s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ing rooms, or function rooms are used for any type of group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venue sources from meeting/function space comes fro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Selling space for a specified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Providing food and beverage service in the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8d3e"/>
                </a:solidFill>
                <a:latin typeface="Verdana"/>
              </a:rPr>
              <a:t>Outlets/Ancillary Revenue Sources</a:t>
            </a:r>
            <a:endParaRPr b="1" lang="en-US" sz="3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tl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ood and beverage point of s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cillar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 sources are revenue sources outside of sleeping rooms or food and beverage such as gift shops or spa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ofit Margin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otel sleeping room is the most profitable portion  of all hotel products because of profit marg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 margin is determined by comparing sales revenue verses the costs incurred in providing a product or serv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oom Cost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 cost analysis looks at what it costs the hotel to keep a room running in relation to what it is sold for to the gu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071720" y="1785960"/>
          <a:ext cx="6769080" cy="2660760"/>
        </p:xfrm>
        <a:graphic>
          <a:graphicData uri="http://schemas.openxmlformats.org/drawingml/2006/table">
            <a:tbl>
              <a:tblPr/>
              <a:tblGrid>
                <a:gridCol w="2255760"/>
                <a:gridCol w="2257200"/>
                <a:gridCol w="225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/L/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h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usekeep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gineering (Internal structure maintena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nds Maintenance (Grounds surrounding build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t service of owners marketing (Local effo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agement Costs (Inc. franchise or management contract fe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 Oblig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oom Cost 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BC Hotel sells a room for an average of $150 per night. The cost incurred in preparing each room for sale ar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3.00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gh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w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usekeep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9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ineering/Ground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5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bt service of own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0.5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ket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2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agement cos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7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porate obligatio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Taxes, etc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$2.5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l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31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re this to the actual cost to the price sold (room rate) and the room cost can be determined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st 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ctual Co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$  31.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50.00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1.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Rate – Room Cost = Prof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Diagram 3" descr=""/>
          <p:cNvPicPr/>
          <p:nvPr/>
        </p:nvPicPr>
        <p:blipFill>
          <a:blip r:embed="rId1"/>
          <a:stretch/>
        </p:blipFill>
        <p:spPr>
          <a:xfrm>
            <a:off x="274680" y="353880"/>
            <a:ext cx="8588160" cy="6222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ood Cost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mon misconception in the hospitality industry is to consider food sales as profitable as room sales. This is not th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d cost is the cost of a particular food item in relation to the price for which it is so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t simply, the food cost percentage is the percentage of the profit taken up but the actual cost of the i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ood Cost 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00040" y="499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for determining the cost 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d cost = Purchase Price / Menu Pr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te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urchase Pric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Menu Pric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ood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a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5.95/ea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22.0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7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ick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3.95/ea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7.9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2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esar Salad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.99/ea.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 9.9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pportunity Co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night when a room goes unsold the hotel loses that opportunity to ever sell it a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portunity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Empty Room Theory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tes that once a room goes unoccupied, it is gone for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pportunity Cost 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BC Hotel has 400 sleeping roo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oom Cost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oom Rate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fit Marg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leeping Roo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30.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50.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20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aily maximum room profit potential i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48,000  ($120x40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eekly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$336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thly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$1,40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early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$17,52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7,520,000 is the maximum potential room profit that ABC Hotel could make in a year. Each unoccupied room subtracts from that number. It is easy to understand why hotel operators focus so much attention on occupan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aptive Audience Quoti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ive audi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guests who are staying at the hotel who will utilise the outlet in the hot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ive audience quotients apply to both outlet/ancillary sales and catering s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 catering contribu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catering business acquired by a hotel that has all, or a large percentage of, the attendees staying at the hotel its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C067-5D0E-4D54-B151-CBA5BD184F1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anaging Quality Control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714400" y="121392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57200" indent="-45720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t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olve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ward achie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ke most service related organizations, hotels are divided between LINE functions and STAFF fun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6215040" y="4000680"/>
            <a:ext cx="2317680" cy="1928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www.fotosearch.com/bthumb/IMZ/IMZ004/shu0103.jpg"/>
          <p:cNvPicPr/>
          <p:nvPr/>
        </p:nvPicPr>
        <p:blipFill>
          <a:blip r:embed="rId2"/>
          <a:stretch/>
        </p:blipFill>
        <p:spPr>
          <a:xfrm>
            <a:off x="500040" y="4071960"/>
            <a:ext cx="2440080" cy="1928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ine Fun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11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functions are the tasks assigned to employees that bring them in regular contact with gues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operations in a hotel are the Rooms Division &amp; Food and Beverage Div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employees are hands-on participants in the assembly and delivery of the hotel’s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= 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2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5715000" y="4429080"/>
            <a:ext cx="2317680" cy="1928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las col 3.jpg"/>
          <p:cNvPicPr/>
          <p:nvPr/>
        </p:nvPicPr>
        <p:blipFill>
          <a:blip r:embed="rId1"/>
          <a:stretch/>
        </p:blipFill>
        <p:spPr>
          <a:xfrm>
            <a:off x="6286680" y="1285920"/>
            <a:ext cx="2342880" cy="1514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ROOMS DEPARTM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1428840"/>
            <a:ext cx="828648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Performs the lodging function of a hote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cludes Front Office, Reserv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Uniformed Services and Housekee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asks performed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ceive reserv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ceive gu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ssign rooms to gu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intain status of room (available or vacant?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ceive mail / phone messages for gu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intain security &amp; cleanliness in rooms and public are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nswer guests’ ques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lose coordination needed by all subun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OOD AND BEVERAGE DEPART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 food and beverage for gu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y include coffee shop, restaurant, poolside snack bar, room service, banquet, function rooms, lobby bar, nightclub / disco, room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s banquet and catering services for events in the hot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4" descr="chef.jpg"/>
          <p:cNvPicPr/>
          <p:nvPr/>
        </p:nvPicPr>
        <p:blipFill>
          <a:blip r:embed="rId1"/>
          <a:stretch/>
        </p:blipFill>
        <p:spPr>
          <a:xfrm>
            <a:off x="2643120" y="4143240"/>
            <a:ext cx="3214800" cy="2151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Food and Beverage Department co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sists of kitchen (food preparation) and F&amp;B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ains individual F&amp;B outlets – restaurants and coffee shop etc (each managed by a manag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ll service hotels have convention and catering sub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warding subunit does the purchasing,cleaning and washing, expediting and arranging facilities for food and beve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63680" indent="-46368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LINE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ssions, rentals, and com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Aft>
                <a:spcPts val="1749"/>
              </a:spcAft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tness and recreation fac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3680" indent="-463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01T14:40:12Z</dcterms:modified>
  <cp:revision>62</cp:revision>
  <dc:subject/>
  <dc:title>FRONT OFFICE OPERATIONS MANAGEMENT</dc:title>
</cp:coreProperties>
</file>